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5271840" y="6314760"/>
            <a:ext cx="42577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4/</a:t>
            </a:r>
            <a:fld id="{67D8F809-F31D-4FD2-B597-65DA26696A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2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9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7    T.Tammet    Programmeerimine       1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710468AA-9F71-4A46-8068-0A54928EC1E9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9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let- program running in a 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7640"/>
            <a:ext cx="7772400" cy="308160"/>
            <a:chOff x="838080" y="377640"/>
            <a:chExt cx="7772400" cy="308160"/>
          </a:xfrm>
        </p:grpSpPr>
        <p:sp>
          <p:nvSpPr>
            <p:cNvPr id="109" name=""/>
            <p:cNvSpPr/>
            <p:nvPr/>
          </p:nvSpPr>
          <p:spPr>
            <a:xfrm>
              <a:off x="838080" y="6843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904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2412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applet code = “Helloa”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"Hello", 10,50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5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des 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kolmapäeviti kell 14.00-15.30 ruumis VII-131 (kohe fuajee kõrval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 korraldavad assistend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6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lambda.ee/index/Programmeerimise_põhikur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fth  Edition,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2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9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7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 24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3016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7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7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22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versioon J2SE (Java 2 standard edition) JDK (software devel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5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di vanemate versioonide (1.3.1 ja uuemad) kasutamine on sama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JDK (vana nimi oli SDK)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redaktorit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8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